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FF8-AC50-4582-B9DF-33431E37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6879-537C-40DA-B515-52B94D28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F9CD-8A95-4B95-B4D3-1BAC0613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CB2-6525-4683-B6E1-0E19F49E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F7CC-24EB-4ABD-961F-B0151734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2BAE-A6E6-4289-A41A-13065C5A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FB80-33B7-4E82-86A5-F5A9A418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D729-46C6-40E3-9789-12D486D1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AD8E-0A3F-440A-8F11-092EBF3E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9B46-A51A-4F96-B3FF-575AD33C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364B-B988-43B2-8E19-4FF4E011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25B-C8FA-4439-A196-FBA7AB9D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8AD3-95E8-43BC-BAA5-8949A05B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B8F9-0355-4ABF-8332-5A6BAB72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9D2E-3D44-4F76-BA55-3EFBE798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CCB9-44F1-4A88-BC9A-826A469D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9B4D-2B86-4CD1-8FEC-4ACBD666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8AD9-50D1-4F1F-9702-0BAE61D1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9928-C620-4EA4-99D8-9D8EF8BC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4E0-5330-4FC0-A9B1-2E216539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AF9-D9E2-4498-B1AB-8CA39733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A135-9054-40E4-A042-5B278623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8C9-0211-4BF4-9E74-0D117AC7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1937-7830-4B94-83F7-7600DAA2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DB9F-F11A-4CC6-BCC1-A9C406FED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DB58-DE2E-401B-9D6C-0423B6150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alsts probācijas dienesta individuālais projekts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Nr. LV 0024 “Latvijas probācijas un ieslodzījuma vietu sistēmas personāla kapacitātes celšana”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2388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3. aktivitā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400040" cy="933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16002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pmācību programmu izstrādes nepieciešamīb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Izveidot vienotu mācību procesu Mācību centrā un ieslodzījuma vietā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Aktualizēt esošo programmu satur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Optimizēt mācību proces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Pielietot vienotas, mūsdienīgas apmācības met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Samazināt mācību procesa izmak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Jaunāko virsnieku penitenciāro zināšanu trūku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fesionālās tālākizglītības programmas “Ieslodzījuma vietu apsardze”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3 līmeņa profesionālā kvalifikācija “Cietuma jaunākais inspektors”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57200" y="1600200"/>
          <a:ext cx="8229600" cy="480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obrīd realizējamās programm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zstrādātā mācību program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līmeņa profesionālā kvalifikācija “Cietuma vecākais uzraugs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līmeņa profesionālā kvalifikācija “Cietuma jaunākais inspektors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līmeņa profesionālā kvalifikācija “Cietuma jaunākais inspektors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mas apjoms – 9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mu realizē – Mācību cent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mas apjoms - 9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mu realizē – Mācību centrs un ieslodzījuma vie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mācības proce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4191120"/>
            <a:ext cx="2590920" cy="1981080"/>
          </a:xfrm>
          <a:prstGeom prst="vertic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ksāmen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ācību centr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676520"/>
            <a:ext cx="1905120" cy="144756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orētiskā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mācīb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ietum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086600" y="1676160"/>
            <a:ext cx="1752840" cy="1447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ak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4343400"/>
            <a:ext cx="2209680" cy="1600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k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343400"/>
            <a:ext cx="2057400" cy="152388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orētiskā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mācīb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ācību centr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1676520"/>
            <a:ext cx="1752840" cy="144756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k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1752480"/>
            <a:ext cx="1905120" cy="144792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orētiskā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mācīb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ācību centr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fesionālās kvalifikācijas pilnveides programma virsniekiem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62480" y="1746000"/>
            <a:ext cx="6782760" cy="4791240"/>
            <a:chOff x="762480" y="1746000"/>
            <a:chExt cx="6782760" cy="4791240"/>
          </a:xfrm>
        </p:grpSpPr>
        <p:sp>
          <p:nvSpPr>
            <p:cNvPr id="229" name="_s40990"/>
            <p:cNvSpPr/>
            <p:nvPr/>
          </p:nvSpPr>
          <p:spPr>
            <a:xfrm flipH="1" flipV="1">
              <a:off x="2801880" y="3458520"/>
              <a:ext cx="676440" cy="390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40989"/>
            <p:cNvSpPr/>
            <p:nvPr/>
          </p:nvSpPr>
          <p:spPr>
            <a:xfrm>
              <a:off x="1263960" y="2449080"/>
              <a:ext cx="1728360" cy="12441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t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_s40988"/>
            <p:cNvSpPr/>
            <p:nvPr/>
          </p:nvSpPr>
          <p:spPr>
            <a:xfrm flipH="1">
              <a:off x="2467800" y="4372920"/>
              <a:ext cx="845640" cy="13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40987"/>
            <p:cNvSpPr/>
            <p:nvPr/>
          </p:nvSpPr>
          <p:spPr>
            <a:xfrm>
              <a:off x="762480" y="4026960"/>
              <a:ext cx="172836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dicīnisk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_s40986"/>
            <p:cNvSpPr/>
            <p:nvPr/>
          </p:nvSpPr>
          <p:spPr>
            <a:xfrm flipH="1">
              <a:off x="3403800" y="4793400"/>
              <a:ext cx="375480" cy="563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40985"/>
            <p:cNvSpPr/>
            <p:nvPr/>
          </p:nvSpPr>
          <p:spPr>
            <a:xfrm>
              <a:off x="2163960" y="5293440"/>
              <a:ext cx="172872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ilitār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_s40984"/>
            <p:cNvSpPr/>
            <p:nvPr/>
          </p:nvSpPr>
          <p:spPr>
            <a:xfrm>
              <a:off x="4528440" y="4793400"/>
              <a:ext cx="375480" cy="563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_s40983"/>
            <p:cNvSpPr/>
            <p:nvPr/>
          </p:nvSpPr>
          <p:spPr>
            <a:xfrm>
              <a:off x="4415040" y="5293440"/>
              <a:ext cx="172836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iholoģisk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_s40982"/>
            <p:cNvSpPr/>
            <p:nvPr/>
          </p:nvSpPr>
          <p:spPr>
            <a:xfrm>
              <a:off x="4993920" y="4371120"/>
              <a:ext cx="846360" cy="14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40981"/>
            <p:cNvSpPr/>
            <p:nvPr/>
          </p:nvSpPr>
          <p:spPr>
            <a:xfrm>
              <a:off x="5816880" y="4026960"/>
              <a:ext cx="172836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konomisk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40980"/>
            <p:cNvSpPr/>
            <p:nvPr/>
          </p:nvSpPr>
          <p:spPr>
            <a:xfrm flipV="1">
              <a:off x="4826520" y="3458160"/>
              <a:ext cx="679320" cy="388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_s40979"/>
            <p:cNvSpPr/>
            <p:nvPr/>
          </p:nvSpPr>
          <p:spPr>
            <a:xfrm>
              <a:off x="5315400" y="2447280"/>
              <a:ext cx="172872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edagoģiskā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40978"/>
            <p:cNvSpPr/>
            <p:nvPr/>
          </p:nvSpPr>
          <p:spPr>
            <a:xfrm flipV="1">
              <a:off x="4152600" y="2989440"/>
              <a:ext cx="0" cy="623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40977"/>
            <p:cNvSpPr/>
            <p:nvPr/>
          </p:nvSpPr>
          <p:spPr>
            <a:xfrm>
              <a:off x="3288240" y="1746000"/>
              <a:ext cx="172872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Juridiskā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40976"/>
            <p:cNvSpPr/>
            <p:nvPr/>
          </p:nvSpPr>
          <p:spPr>
            <a:xfrm>
              <a:off x="3288240" y="3613680"/>
              <a:ext cx="1728720" cy="12441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ffffff"/>
                  </a:solidFill>
                  <a:latin typeface="Arial"/>
                </a:rPr>
                <a:t>Penitenciārā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ffffff"/>
                  </a:solidFill>
                  <a:latin typeface="Arial"/>
                </a:rPr>
                <a:t>pamatzināšan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aldies par uzmanību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400040" cy="933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16002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a.Andriksone</cp:lastModifiedBy>
  <dcterms:modified xsi:type="dcterms:W3CDTF">2010-12-15T06:59:1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